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wmf" ContentType="image/x-wmf"/>
  <Override PartName="/ppt/media/image12.wmf" ContentType="image/x-wmf"/>
  <Override PartName="/ppt/media/image4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2.jpeg" ContentType="image/jpeg"/>
  <Override PartName="/ppt/media/image14.wmf" ContentType="image/x-wmf"/>
  <Override PartName="/ppt/media/image6.png" ContentType="image/png"/>
  <Override PartName="/ppt/media/image10.wmf" ContentType="image/x-wmf"/>
  <Override PartName="/ppt/media/image15.wmf" ContentType="image/x-wmf"/>
  <Override PartName="/ppt/media/image7.png" ContentType="image/png"/>
  <Override PartName="/ppt/media/image3.png" ContentType="image/png"/>
  <Override PartName="/ppt/media/image11.wmf" ContentType="image/x-wmf"/>
  <Override PartName="/ppt/media/image16.wmf" ContentType="image/x-wmf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1440" y="-5040"/>
            <a:ext cx="3101760" cy="4762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"/>
          </p:nvPr>
        </p:nvSpPr>
        <p:spPr>
          <a:xfrm>
            <a:off x="4049280" y="-5040"/>
            <a:ext cx="3102120" cy="4762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ftr" idx="2"/>
          </p:nvPr>
        </p:nvSpPr>
        <p:spPr>
          <a:xfrm>
            <a:off x="-1440" y="8975880"/>
            <a:ext cx="3101760" cy="4759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sldNum" idx="3"/>
          </p:nvPr>
        </p:nvSpPr>
        <p:spPr>
          <a:xfrm>
            <a:off x="404928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B604F516-800A-4B31-9D33-5771D3A65BF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2936160" y="8997840"/>
            <a:ext cx="12776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E27B3A8-B48A-4F82-A887-F8ABC34D1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Img"/>
          </p:nvPr>
        </p:nvSpPr>
        <p:spPr>
          <a:xfrm>
            <a:off x="1222200" y="717120"/>
            <a:ext cx="4703760" cy="3527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8600" bIns="486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F0473B6D-D9B1-485F-88AD-36F4A0E403A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22200" y="71424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FAA7CEED-DB12-4407-A8D5-55698791CF0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258920" y="741240"/>
            <a:ext cx="4630680" cy="34736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65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40A37431-C9C9-4C1B-9F98-A7AAB1C6F74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258920" y="741240"/>
            <a:ext cx="4630680" cy="34736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65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01D3974C-E46C-44BA-A15A-3683E9ADD3E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8920" y="741240"/>
            <a:ext cx="4630680" cy="34736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65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F30DDAF6-6C8B-4B6A-AB00-4ED431E5CE8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8920" y="741240"/>
            <a:ext cx="4630680" cy="34736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65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863C5456-80A7-41D1-9788-23FC59BB5A6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8920" y="741240"/>
            <a:ext cx="4630680" cy="34736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65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4E47692C-01AB-4AD8-8386-0219C1D17C5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8920" y="741240"/>
            <a:ext cx="4630680" cy="347364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65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9081FB78-CC54-47D5-BC46-E5F3CAC4194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222200" y="71424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157D5C33-FECF-431D-9795-1AFDB470B0E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258920" y="741240"/>
            <a:ext cx="4630680" cy="34736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65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6FF4B7D8-A2AE-46B8-A9B1-46D43EA2826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258920" y="741240"/>
            <a:ext cx="4630680" cy="34736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65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AF6A7FA7-2103-449B-804E-710E81DBE6F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258920" y="741240"/>
            <a:ext cx="4630680" cy="347364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65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161566B5-D7F7-4787-82B9-C63822EEDEC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258920" y="741240"/>
            <a:ext cx="4630680" cy="34736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65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06A98022-42B8-48F6-A51F-04672BADD36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258920" y="741240"/>
            <a:ext cx="4630680" cy="347364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65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2850C45D-9693-49BD-936C-EB7BD2E0C6B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258920" y="741240"/>
            <a:ext cx="4630680" cy="34736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65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EBF1DFC0-C054-4EBA-8967-5EA31D42D7C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258920" y="741240"/>
            <a:ext cx="4630680" cy="34736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65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35081D33-18FE-42D9-B9EA-1C168D85B28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258920" y="741240"/>
            <a:ext cx="4630680" cy="34736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65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0CC6F832-C753-4B83-9C74-F37107B8F5C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258920" y="741240"/>
            <a:ext cx="4630680" cy="34736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65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61052C5C-E896-4837-92EE-CD0DC0ABA9F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258920" y="741240"/>
            <a:ext cx="4630680" cy="34736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65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7BD0F24B-1A80-4DAA-A4F4-E5CF0269161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258920" y="741240"/>
            <a:ext cx="4630680" cy="34736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65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B798AD93-FE41-41CC-9847-43557E648AD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258920" y="741240"/>
            <a:ext cx="4630680" cy="34736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65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780DA4D8-095A-4428-9651-C9DEFAB925D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body"/>
          </p:nvPr>
        </p:nvSpPr>
        <p:spPr>
          <a:xfrm>
            <a:off x="598320" y="2887200"/>
            <a:ext cx="5964480" cy="597852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ot"/>
            <a:miter/>
          </a:ln>
        </p:spPr>
        <p:txBody>
          <a:bodyPr lIns="96120" rIns="96120" tIns="48960" bIns="4896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scribe the steps in the PROBE metho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ldImg"/>
          </p:nvPr>
        </p:nvSpPr>
        <p:spPr>
          <a:xfrm>
            <a:off x="2028960" y="623880"/>
            <a:ext cx="2869920" cy="21528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1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1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1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1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1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D7AB9-606B-4241-8868-FACF763C178A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ersonal Software Process for Engineers: Part 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December,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0E09E-2D37-4392-BCFA-CD2800C94B8E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Box 9"/>
          <p:cNvSpPr/>
          <p:nvPr/>
        </p:nvSpPr>
        <p:spPr>
          <a:xfrm>
            <a:off x="6157800" y="6513480"/>
            <a:ext cx="2324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[Distribution Statement A] Approved for public release and unlimited distribution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E55E5-8F6E-4505-89E7-517A0E745983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ersonal Software Process for Engineers: Part 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December,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49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1B605-3B6F-4799-8C0D-DF01C1D5900D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9"/>
          <p:cNvSpPr/>
          <p:nvPr/>
        </p:nvSpPr>
        <p:spPr>
          <a:xfrm>
            <a:off x="6157800" y="6513480"/>
            <a:ext cx="2324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[Distribution Statement A] Approved for public release and unlimited distribution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Placeholder 5" descr=""/>
          <p:cNvPicPr/>
          <p:nvPr/>
        </p:nvPicPr>
        <p:blipFill>
          <a:blip r:embed="rId3"/>
          <a:stretch/>
        </p:blipFill>
        <p:spPr>
          <a:xfrm>
            <a:off x="6059520" y="0"/>
            <a:ext cx="3084480" cy="63752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5"/>
          <p:cNvSpPr/>
          <p:nvPr/>
        </p:nvSpPr>
        <p:spPr>
          <a:xfrm>
            <a:off x="0" y="-17640"/>
            <a:ext cx="6059520" cy="6400800"/>
          </a:xfrm>
          <a:prstGeom prst="rect">
            <a:avLst/>
          </a:prstGeom>
          <a:solidFill>
            <a:srgbClr val="0056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6"/>
          <p:cNvSpPr/>
          <p:nvPr/>
        </p:nvSpPr>
        <p:spPr>
          <a:xfrm>
            <a:off x="380880" y="5492880"/>
            <a:ext cx="4789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oftware Engineering Instit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arnegie Mellon Univer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ittsburgh, PA  152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7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8" descr=""/>
          <p:cNvPicPr/>
          <p:nvPr/>
        </p:nvPicPr>
        <p:blipFill>
          <a:blip r:embed="rId4"/>
          <a:stretch/>
        </p:blipFill>
        <p:spPr>
          <a:xfrm>
            <a:off x="266760" y="6480000"/>
            <a:ext cx="3835440" cy="2588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73"/>
          <p:cNvSpPr/>
          <p:nvPr/>
        </p:nvSpPr>
        <p:spPr>
          <a:xfrm>
            <a:off x="4413240" y="6411960"/>
            <a:ext cx="2060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Personal Software Process 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for Engineers: Part I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0"/>
          <p:cNvSpPr/>
          <p:nvPr/>
        </p:nvSpPr>
        <p:spPr>
          <a:xfrm>
            <a:off x="6085080" y="6450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[Distribution Statement A] Approved for public release an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unlimited distribution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95C5A-94D4-492F-AA2A-E71E3AE39671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ersonal Software Process for Engineers: Part 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December,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101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8AAC5-FFFB-4FCD-9E00-64BB7E7FEBDE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9"/>
          <p:cNvSpPr/>
          <p:nvPr/>
        </p:nvSpPr>
        <p:spPr>
          <a:xfrm>
            <a:off x="6157800" y="6513480"/>
            <a:ext cx="2324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[Distribution Statement A] Approved for public release and unlimited distribution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4" descr=""/>
          <p:cNvPicPr/>
          <p:nvPr/>
        </p:nvPicPr>
        <p:blipFill>
          <a:blip r:embed="rId3"/>
          <a:stretch/>
        </p:blipFill>
        <p:spPr>
          <a:xfrm>
            <a:off x="11160" y="1098720"/>
            <a:ext cx="3227400" cy="52416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25E01-7496-41FF-B60D-9803DB33FB44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ersonal Software Process for Engineers: Part 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December,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147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CA3A9-857E-4102-8ED4-34C7C0E654D1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9"/>
          <p:cNvSpPr/>
          <p:nvPr/>
        </p:nvSpPr>
        <p:spPr>
          <a:xfrm>
            <a:off x="6157800" y="6513480"/>
            <a:ext cx="2324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[Distribution Statement A] Approved for public release and unlimited distribution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4"/>
          <p:cNvSpPr/>
          <p:nvPr/>
        </p:nvSpPr>
        <p:spPr>
          <a:xfrm>
            <a:off x="0" y="-17640"/>
            <a:ext cx="9144000" cy="6355080"/>
          </a:xfrm>
          <a:prstGeom prst="rect">
            <a:avLst/>
          </a:prstGeom>
          <a:solidFill>
            <a:srgbClr val="0056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5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6" descr=""/>
          <p:cNvPicPr/>
          <p:nvPr/>
        </p:nvPicPr>
        <p:blipFill>
          <a:blip r:embed="rId3"/>
          <a:stretch/>
        </p:blipFill>
        <p:spPr>
          <a:xfrm>
            <a:off x="266760" y="6480000"/>
            <a:ext cx="3835440" cy="25884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73"/>
          <p:cNvSpPr/>
          <p:nvPr/>
        </p:nvSpPr>
        <p:spPr>
          <a:xfrm>
            <a:off x="4184640" y="6408720"/>
            <a:ext cx="2019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Title of the Presentation Goes Her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© 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8"/>
          <p:cNvSpPr/>
          <p:nvPr/>
        </p:nvSpPr>
        <p:spPr>
          <a:xfrm>
            <a:off x="5724360" y="6411960"/>
            <a:ext cx="34196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[DISTRIBUTION STATEMENT A] This material has been approved for public release an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unlimited distribution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1058760" y="4967280"/>
            <a:ext cx="7313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material is approved for public release. Distribution is limited by the Software Engineering Institute to attende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© 2006 by Carnegie Mellon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4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4122720" y="6567480"/>
            <a:ext cx="9874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ctober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938880" y="73188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Pittsburgh, PA 15213-38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8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9"/>
          <p:cNvSpPr/>
          <p:nvPr/>
        </p:nvSpPr>
        <p:spPr>
          <a:xfrm>
            <a:off x="6215040" y="6564240"/>
            <a:ext cx="292896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SP I - Introduction to PSP and TSP - </a:t>
            </a:r>
            <a:fld id="{7C3F31D9-9FF3-4093-BDF9-405F37C4A79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87200" y="1746000"/>
            <a:ext cx="805644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Personal Software Process</a:t>
            </a:r>
            <a:br>
              <a:rPr sz="3100"/>
            </a:b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for Engineers: Part I</a:t>
            </a:r>
            <a:br>
              <a:rPr sz="31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utorial: Using PSP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6081480" y="1763640"/>
            <a:ext cx="267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5695"/>
                </a:solidFill>
                <a:latin typeface="Arial"/>
              </a:rPr>
              <a:t>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eptual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ptual design relates the requirements to the parts needed to produce the progra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arts needed 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se parts – an existing part that can be used but will require modifica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ded parts – new parts that need to be develop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used parts – an existing part that can be used as-i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fy and Size Prox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ded parts are new parts that must be developed and their size must be estimat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ize of an added part is determined by using a prox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the part type, e.g. calculation, IO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imate the number of items, e.g. method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imate the relative size, i.e. very small, small, medium, large, or very lar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d the size of an item of this part type and relative size in the relative size tab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lculate the estimated size = size of an item * number of i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ate Other Element Siz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se parts are existing parts that will be changed by adding, deleting, or modify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ize estimate of a base part is its actual size and an estimate of the additions, deletions, and modifica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used parts are parts that are used without modific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ize estimate of a reused part is its actual siz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ating Base Par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002960" y="1638000"/>
            <a:ext cx="7413480" cy="27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4190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ring planning, enter each base pa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4190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ter the name of the base part or use the combo box to select a part from the parts librar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4190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ter the planned size of the base pa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884160" indent="-41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 the base size if the part was not selected from the parts libr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84160" indent="-41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 the estimated deleted, modified, and added siz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7" descr="S13"/>
          <p:cNvPicPr/>
          <p:nvPr/>
        </p:nvPicPr>
        <p:blipFill>
          <a:blip r:embed="rId1"/>
          <a:stretch/>
        </p:blipFill>
        <p:spPr>
          <a:xfrm>
            <a:off x="1131840" y="4629240"/>
            <a:ext cx="7259760" cy="156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ating Added Par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002960" y="1638360"/>
            <a:ext cx="741348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marL="372600" indent="-372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ring planning, enter each added pa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87080" indent="-3726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ter the part nam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87080" indent="-3726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lect a part typ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87080" indent="-3726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ter the planned number of item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87080" indent="-3726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ter the planned relative si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87080" indent="-3726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nned size is automatically calculat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0" descr="S14"/>
          <p:cNvPicPr/>
          <p:nvPr/>
        </p:nvPicPr>
        <p:blipFill>
          <a:blip r:embed="rId1"/>
          <a:stretch/>
        </p:blipFill>
        <p:spPr>
          <a:xfrm>
            <a:off x="1027080" y="4098960"/>
            <a:ext cx="7261200" cy="206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ating Reused Par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1002960" y="1638000"/>
            <a:ext cx="741348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4190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ring planning, enter each reused pa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4190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ter the name of the reuse part or use the combo box to select a part from the parts librar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4190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ter the planned size of the reuse part if the part was not selected from the parts librar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11" descr="S15"/>
          <p:cNvPicPr/>
          <p:nvPr/>
        </p:nvPicPr>
        <p:blipFill>
          <a:blip r:embed="rId1"/>
          <a:stretch/>
        </p:blipFill>
        <p:spPr>
          <a:xfrm>
            <a:off x="1017720" y="3735360"/>
            <a:ext cx="7259400" cy="173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ate Projected Size and Ti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003320" y="1638000"/>
            <a:ext cx="356400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ed size and time are calculated from estimated part size using historical data and PROBE method A, B, C, or 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BE Calculation Worksheet automates these calcul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9"/>
          <p:cNvSpPr/>
          <p:nvPr/>
        </p:nvSpPr>
        <p:spPr>
          <a:xfrm>
            <a:off x="990720" y="4697280"/>
            <a:ext cx="7532640" cy="17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80880" indent="-3808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ing planning, select a PROBE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381240">
              <a:buClr>
                <a:srgbClr val="000000"/>
              </a:buClr>
              <a:buFont typeface="Arial"/>
              <a:buAutoNum type="arabicPeriod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a method for program size (A, B, C, or 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381240">
              <a:buClr>
                <a:srgbClr val="000000"/>
              </a:buClr>
              <a:buFont typeface="Arial"/>
              <a:buAutoNum type="arabicPeriod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a method for time (A, B, C, or D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38124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13" descr="S16"/>
          <p:cNvPicPr/>
          <p:nvPr/>
        </p:nvPicPr>
        <p:blipFill>
          <a:blip r:embed="rId1"/>
          <a:stretch/>
        </p:blipFill>
        <p:spPr>
          <a:xfrm>
            <a:off x="4754520" y="1676520"/>
            <a:ext cx="388152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lecting PROBE Metho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1020600" y="1638000"/>
            <a:ext cx="281160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BE script includes guidelines for selecting metho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arameters referenced in the script can be found at the bottom of the size estimating templ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0"/>
          <p:cNvSpPr/>
          <p:nvPr/>
        </p:nvSpPr>
        <p:spPr>
          <a:xfrm>
            <a:off x="1020600" y="4676760"/>
            <a:ext cx="280044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5000"/>
          </a:bodyPr>
          <a:p>
            <a:pPr marL="361800" indent="-36180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selection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362160">
              <a:buClr>
                <a:srgbClr val="000000"/>
              </a:buClr>
              <a:buFont typeface="Arial"/>
              <a:buAutoNum type="arabicPeriod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362160">
              <a:buClr>
                <a:srgbClr val="000000"/>
              </a:buClr>
              <a:buFont typeface="Arial"/>
              <a:buAutoNum type="arabicPeriod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362160">
              <a:buClr>
                <a:srgbClr val="000000"/>
              </a:buClr>
              <a:buFont typeface="Arial"/>
              <a:buAutoNum type="arabicPeriod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5"/>
          <p:cNvSpPr/>
          <p:nvPr/>
        </p:nvSpPr>
        <p:spPr>
          <a:xfrm>
            <a:off x="4645080" y="5305320"/>
            <a:ext cx="349560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80880" indent="-3808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data can be grap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381240">
              <a:buClr>
                <a:srgbClr val="000000"/>
              </a:buClr>
              <a:buFont typeface="Arial"/>
              <a:buAutoNum type="arabicPeriod" startAt="4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C and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381240">
              <a:buClr>
                <a:srgbClr val="000000"/>
              </a:buClr>
              <a:buFont typeface="Arial"/>
              <a:buAutoNum type="arabicPeriod" startAt="4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18" descr="S17"/>
          <p:cNvPicPr/>
          <p:nvPr/>
        </p:nvPicPr>
        <p:blipFill>
          <a:blip r:embed="rId1"/>
          <a:stretch/>
        </p:blipFill>
        <p:spPr>
          <a:xfrm>
            <a:off x="3940200" y="1700280"/>
            <a:ext cx="453852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ates Transferred to Plan 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4" descr=""/>
          <p:cNvPicPr/>
          <p:nvPr/>
        </p:nvPicPr>
        <p:blipFill>
          <a:blip r:embed="rId1"/>
          <a:srcRect l="1229" t="6986" r="8450" b="5046"/>
          <a:stretch/>
        </p:blipFill>
        <p:spPr>
          <a:xfrm>
            <a:off x="5226120" y="2195640"/>
            <a:ext cx="3039840" cy="431964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730160" y="1638000"/>
            <a:ext cx="741348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s are automatically transferred to the Plan Summ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6" descr=""/>
          <p:cNvPicPr/>
          <p:nvPr/>
        </p:nvPicPr>
        <p:blipFill>
          <a:blip r:embed="rId2"/>
          <a:srcRect l="1275" t="6758" r="7612" b="2385"/>
          <a:stretch/>
        </p:blipFill>
        <p:spPr>
          <a:xfrm>
            <a:off x="0" y="2195640"/>
            <a:ext cx="3040200" cy="4319640"/>
          </a:xfrm>
          <a:prstGeom prst="rect">
            <a:avLst/>
          </a:prstGeom>
          <a:ln w="0">
            <a:noFill/>
          </a:ln>
        </p:spPr>
      </p:pic>
      <p:sp>
        <p:nvSpPr>
          <p:cNvPr id="296" name="AutoShape 8"/>
          <p:cNvSpPr/>
          <p:nvPr/>
        </p:nvSpPr>
        <p:spPr>
          <a:xfrm>
            <a:off x="4381560" y="3807000"/>
            <a:ext cx="614160" cy="1079280"/>
          </a:xfrm>
          <a:prstGeom prst="rightArrow">
            <a:avLst>
              <a:gd name="adj1" fmla="val 50000"/>
              <a:gd name="adj2" fmla="val 4496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fter Develop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10" descr=""/>
          <p:cNvPicPr/>
          <p:nvPr/>
        </p:nvPicPr>
        <p:blipFill>
          <a:blip r:embed="rId1"/>
          <a:srcRect l="1275" t="6758" r="7612" b="2385"/>
          <a:stretch/>
        </p:blipFill>
        <p:spPr>
          <a:xfrm>
            <a:off x="4924440" y="1550880"/>
            <a:ext cx="3490920" cy="496116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8" descr=""/>
          <p:cNvPicPr/>
          <p:nvPr/>
        </p:nvPicPr>
        <p:blipFill>
          <a:blip r:embed="rId2"/>
          <a:srcRect l="1229" t="22280" r="12184" b="57656"/>
          <a:stretch/>
        </p:blipFill>
        <p:spPr>
          <a:xfrm>
            <a:off x="1065240" y="4764240"/>
            <a:ext cx="3502080" cy="123480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-360" y="1638000"/>
            <a:ext cx="363060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ing postmortem the actual size of parts is entered on the size estimating templ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ctual size of the program is entered in Total, under Actual, in the Program Size Summary section of the project plan summa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utorial Objectiv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ter this tutorial, you w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stand the new elements of PSP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now how to use the PSP1 process scripts and 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 prepared to use PSP1 for program 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ording Base Part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1002960" y="1638000"/>
            <a:ext cx="7413480" cy="24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marL="372600" indent="-372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ring postmortem, enter the size of each base pa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87080" indent="-3726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asure and enter the actual base, deleted, modified, and added si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2600" indent="-372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2600" indent="-372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87080" indent="-372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a part not estimated, add it and enter zeros in pla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87080" indent="-372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 a part not used, enter zeros in actu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7" descr="S20"/>
          <p:cNvPicPr/>
          <p:nvPr/>
        </p:nvPicPr>
        <p:blipFill>
          <a:blip r:embed="rId1"/>
          <a:stretch/>
        </p:blipFill>
        <p:spPr>
          <a:xfrm>
            <a:off x="1036800" y="4305240"/>
            <a:ext cx="7259400" cy="156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ording Added Part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1002960" y="1638360"/>
            <a:ext cx="7413480" cy="24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356040" indent="-3560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ring postmortem, enter the size of each added par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3560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asure and enter the actual number of item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3560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asure and enter the actual si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6040" indent="-3560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6040" indent="-3560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356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a part not estimated, add it and enter zeros in plan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356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 a part not used, enter zeros in actu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10" descr="S21"/>
          <p:cNvPicPr/>
          <p:nvPr/>
        </p:nvPicPr>
        <p:blipFill>
          <a:blip r:embed="rId1"/>
          <a:stretch/>
        </p:blipFill>
        <p:spPr>
          <a:xfrm>
            <a:off x="971640" y="4260960"/>
            <a:ext cx="7257960" cy="206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ording Reused Part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1002960" y="1638000"/>
            <a:ext cx="741348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marL="364320" indent="-3643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ring postmortem, enter the size of each reuse par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3643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asure and enter the actual size of the reuse par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4320" indent="-3643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4320" indent="-3643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364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a part not estimated, add it and enter zeros in pla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364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a part not used, enter zeros in actu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7" descr="S22"/>
          <p:cNvPicPr/>
          <p:nvPr/>
        </p:nvPicPr>
        <p:blipFill>
          <a:blip r:embed="rId1"/>
          <a:stretch/>
        </p:blipFill>
        <p:spPr>
          <a:xfrm>
            <a:off x="988920" y="4154400"/>
            <a:ext cx="7259760" cy="173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ording Total Actual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1002960" y="1638000"/>
            <a:ext cx="7413480" cy="10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4190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ring postmor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4190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asure and enter the actual total si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6" descr="S23"/>
          <p:cNvPicPr/>
          <p:nvPr/>
        </p:nvPicPr>
        <p:blipFill>
          <a:blip r:embed="rId1"/>
          <a:stretch/>
        </p:blipFill>
        <p:spPr>
          <a:xfrm>
            <a:off x="1044720" y="3022560"/>
            <a:ext cx="7435800" cy="244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ssages to Rememb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imating accuracy will fluctua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r estimates will have some bi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BE adjusts for bias using historical dat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gineering judgment is still requi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SP1 Objecti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objective of PSP1 is to establish an orderly and repeatable procedure for developing software size estimat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Process Ele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new process elements ar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BE size estimating method and size estimating templ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st report templ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roject plan summary has been expand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mmary section has been added with plan, actual, and to-date productiv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 Size summary includes planned size for all size accounting typ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values except the Total Size under Actual in the Program Size Summary are now calculat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SP1 Project Plan Summary 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3060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SP1 Project Plan Summary includes a new summary s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ummary section includes plan, actual, and to-date producti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gram size summary section has been expanded to report planned size for all size accounting typ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values except total actual size are calcul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5" descr=""/>
          <p:cNvPicPr/>
          <p:nvPr/>
        </p:nvPicPr>
        <p:blipFill>
          <a:blip r:embed="rId1"/>
          <a:srcRect l="1229" t="6986" r="8450" b="5046"/>
          <a:stretch/>
        </p:blipFill>
        <p:spPr>
          <a:xfrm>
            <a:off x="4764240" y="1525680"/>
            <a:ext cx="3644640" cy="504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SP1 Project Plan Summary 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4" descr=""/>
          <p:cNvPicPr/>
          <p:nvPr/>
        </p:nvPicPr>
        <p:blipFill>
          <a:blip r:embed="rId1"/>
          <a:srcRect l="1229" t="17882" r="27062" b="77069"/>
          <a:stretch/>
        </p:blipFill>
        <p:spPr>
          <a:xfrm>
            <a:off x="1243080" y="4411800"/>
            <a:ext cx="5943600" cy="59508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730160" y="1638000"/>
            <a:ext cx="741348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n, actual, and to-date productivity is automatically calculat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is the number of added and modified size units per hou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roductivity = A&amp;M Size / Total Development Time * 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st Report Templa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30600" cy="45928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is form to record data on each of your te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test was r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test data were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s that were ob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ful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ing and recording test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ing regression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5" descr=""/>
          <p:cNvPicPr/>
          <p:nvPr/>
        </p:nvPicPr>
        <p:blipFill>
          <a:blip r:embed="rId1"/>
          <a:srcRect l="2541" t="7146" r="10267" b="23473"/>
          <a:stretch/>
        </p:blipFill>
        <p:spPr>
          <a:xfrm>
            <a:off x="4564080" y="1735200"/>
            <a:ext cx="3875040" cy="444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E and the Size Estimating Templa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6" descr=""/>
          <p:cNvPicPr/>
          <p:nvPr/>
        </p:nvPicPr>
        <p:blipFill>
          <a:blip r:embed="rId1"/>
          <a:srcRect l="1275" t="6758" r="7612" b="2385"/>
          <a:stretch/>
        </p:blipFill>
        <p:spPr>
          <a:xfrm>
            <a:off x="4983120" y="1525680"/>
            <a:ext cx="3560760" cy="504648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 txBox="1"/>
          <p:nvPr/>
        </p:nvSpPr>
        <p:spPr>
          <a:xfrm>
            <a:off x="4785840" y="1638000"/>
            <a:ext cx="363060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ing with PSP1, the PROBE method is used for making size and time estim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ize Estimating Template is used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rd input to the PROBE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the estimated size and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rd actual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65080" y="86040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30320" rIns="130320" tIns="65160" bIns="651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s in the PROBE Metho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35" descr="S9"/>
          <p:cNvPicPr/>
          <p:nvPr/>
        </p:nvPicPr>
        <p:blipFill>
          <a:blip r:embed="rId1"/>
          <a:stretch/>
        </p:blipFill>
        <p:spPr>
          <a:xfrm>
            <a:off x="1027080" y="1568520"/>
            <a:ext cx="7089840" cy="4995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15:45:23Z</dcterms:created>
  <dc:creator>Stacy Mitchell</dc:creator>
  <dc:description/>
  <cp:keywords/>
  <dc:language>en-US</dc:language>
  <cp:lastModifiedBy>wrn_loc_adm</cp:lastModifiedBy>
  <cp:lastPrinted>2000-12-21T16:04:54Z</cp:lastPrinted>
  <dcterms:modified xsi:type="dcterms:W3CDTF">2018-09-06T00:14:12Z</dcterms:modified>
  <cp:revision>167</cp:revision>
  <dc:subject/>
  <dc:title>No Slide Title</dc:title>
</cp:coreProperties>
</file>